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42.xml" ContentType="application/vnd.openxmlformats-officedocument.presentationml.slide+xml"/>
  <Override PartName="/ppt/slides/slide4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  <p:sldId id="288" r:id="rId40"/>
    <p:sldId id="289" r:id="rId41"/>
    <p:sldId id="290" r:id="rId42"/>
    <p:sldId id="291" r:id="rId43"/>
    <p:sldId id="292" r:id="rId44"/>
    <p:sldId id="293" r:id="rId45"/>
    <p:sldId id="294" r:id="rId46"/>
    <p:sldId id="295" r:id="rId47"/>
    <p:sldId id="296" r:id="rId48"/>
    <p:sldId id="297" r:id="rId49"/>
    <p:sldId id="298" r:id="rId50"/>
    <p:sldId id="299" r:id="rId51"/>
    <p:sldId id="300" r:id="rId52"/>
    <p:sldId id="301" r:id="rId53"/>
    <p:sldId id="302" r:id="rId54"/>
    <p:sldId id="303" r:id="rId55"/>
    <p:sldId id="304" r:id="rId56"/>
    <p:sldId id="305" r:id="rId57"/>
    <p:sldId id="306" r:id="rId58"/>
    <p:sldId id="307" r:id="rId59"/>
    <p:sldId id="308" r:id="rId60"/>
    <p:sldId id="309" r:id="rId61"/>
    <p:sldId id="310" r:id="rId62"/>
    <p:sldId id="311" r:id="rId63"/>
    <p:sldId id="312" r:id="rId64"/>
    <p:sldId id="313" r:id="rId65"/>
    <p:sldId id="314" r:id="rId66"/>
    <p:sldId id="315" r:id="rId67"/>
    <p:sldId id="316" r:id="rId68"/>
    <p:sldId id="317" r:id="rId69"/>
    <p:sldId id="318" r:id="rId7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slide" Target="slides/slide33.xml"/><Relationship Id="rId41" Type="http://schemas.openxmlformats.org/officeDocument/2006/relationships/slide" Target="slides/slide34.xml"/><Relationship Id="rId42" Type="http://schemas.openxmlformats.org/officeDocument/2006/relationships/slide" Target="slides/slide35.xml"/><Relationship Id="rId43" Type="http://schemas.openxmlformats.org/officeDocument/2006/relationships/slide" Target="slides/slide36.xml"/><Relationship Id="rId44" Type="http://schemas.openxmlformats.org/officeDocument/2006/relationships/slide" Target="slides/slide37.xml"/><Relationship Id="rId45" Type="http://schemas.openxmlformats.org/officeDocument/2006/relationships/slide" Target="slides/slide38.xml"/><Relationship Id="rId46" Type="http://schemas.openxmlformats.org/officeDocument/2006/relationships/slide" Target="slides/slide39.xml"/><Relationship Id="rId47" Type="http://schemas.openxmlformats.org/officeDocument/2006/relationships/slide" Target="slides/slide40.xml"/><Relationship Id="rId48" Type="http://schemas.openxmlformats.org/officeDocument/2006/relationships/slide" Target="slides/slide41.xml"/><Relationship Id="rId49" Type="http://schemas.openxmlformats.org/officeDocument/2006/relationships/slide" Target="slides/slide42.xml"/><Relationship Id="rId50" Type="http://schemas.openxmlformats.org/officeDocument/2006/relationships/slide" Target="slides/slide43.xml"/><Relationship Id="rId51" Type="http://schemas.openxmlformats.org/officeDocument/2006/relationships/slide" Target="slides/slide44.xml"/><Relationship Id="rId52" Type="http://schemas.openxmlformats.org/officeDocument/2006/relationships/slide" Target="slides/slide45.xml"/><Relationship Id="rId53" Type="http://schemas.openxmlformats.org/officeDocument/2006/relationships/slide" Target="slides/slide46.xml"/><Relationship Id="rId54" Type="http://schemas.openxmlformats.org/officeDocument/2006/relationships/slide" Target="slides/slide47.xml"/><Relationship Id="rId55" Type="http://schemas.openxmlformats.org/officeDocument/2006/relationships/slide" Target="slides/slide48.xml"/><Relationship Id="rId56" Type="http://schemas.openxmlformats.org/officeDocument/2006/relationships/slide" Target="slides/slide49.xml"/><Relationship Id="rId57" Type="http://schemas.openxmlformats.org/officeDocument/2006/relationships/slide" Target="slides/slide50.xml"/><Relationship Id="rId58" Type="http://schemas.openxmlformats.org/officeDocument/2006/relationships/slide" Target="slides/slide51.xml"/><Relationship Id="rId59" Type="http://schemas.openxmlformats.org/officeDocument/2006/relationships/slide" Target="slides/slide52.xml"/><Relationship Id="rId60" Type="http://schemas.openxmlformats.org/officeDocument/2006/relationships/slide" Target="slides/slide53.xml"/><Relationship Id="rId61" Type="http://schemas.openxmlformats.org/officeDocument/2006/relationships/slide" Target="slides/slide54.xml"/><Relationship Id="rId62" Type="http://schemas.openxmlformats.org/officeDocument/2006/relationships/slide" Target="slides/slide55.xml"/><Relationship Id="rId63" Type="http://schemas.openxmlformats.org/officeDocument/2006/relationships/slide" Target="slides/slide56.xml"/><Relationship Id="rId64" Type="http://schemas.openxmlformats.org/officeDocument/2006/relationships/slide" Target="slides/slide57.xml"/><Relationship Id="rId65" Type="http://schemas.openxmlformats.org/officeDocument/2006/relationships/slide" Target="slides/slide58.xml"/><Relationship Id="rId66" Type="http://schemas.openxmlformats.org/officeDocument/2006/relationships/slide" Target="slides/slide59.xml"/><Relationship Id="rId67" Type="http://schemas.openxmlformats.org/officeDocument/2006/relationships/slide" Target="slides/slide60.xml"/><Relationship Id="rId68" Type="http://schemas.openxmlformats.org/officeDocument/2006/relationships/slide" Target="slides/slide61.xml"/><Relationship Id="rId69" Type="http://schemas.openxmlformats.org/officeDocument/2006/relationships/slide" Target="slides/slide62.xml"/><Relationship Id="rId70" Type="http://schemas.openxmlformats.org/officeDocument/2006/relationships/slide" Target="slides/slide63.xml"/><Relationship Id="rId7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ECB26-00F7-464B-9D37-CE7026D80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73C8E-1CB3-4043-BEC2-2709F5F17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787F1-9BBF-49CD-9A73-09AB8A88B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9361D-C925-4F5E-A3C9-A4FBA5EEC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27EB1-6630-4964-B64D-45B6B6535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B0C2F-A3B0-459E-B386-759AFC313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67034-5359-48F3-A122-E4DF8A36E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2E06A-DF5B-4468-A3CC-C6AED676B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B55BA-08A1-40A2-BB6A-CF689DCF2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43AD4-239E-4800-99B6-E96E5001C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002BD-6194-404B-A665-6E30BD800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1B72A-6F7D-4FE2-9525-F41416129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853DC-318D-4000-9653-98FB9CE00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7306F-7CC3-4720-A7F7-E2B07FD7F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61333-2F2E-411B-AB07-B173E94A0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D6EF8-49B4-430D-A0AD-4331761BD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8BB43-2EE5-44CB-B1F7-057CACE97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48139E-9F28-490C-A0D0-875CB6A3C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B0043E-38E4-4AE1-99CC-21362C835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90F423-2918-47E9-8A8D-E26D4EFAA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EEA2E8-5529-4C5D-8D83-B111139B0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857CB0-89B5-40C1-8523-4EA87B172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E63E2-0B7C-4383-B115-7BDEDE905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2A5DE9-0F91-44B4-870E-55C8846A2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3BED00-2A41-4538-9824-DC6ABD76C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740C0D-FB67-4947-9B06-B66FCFC4E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07070F-C0AF-43C6-A4FE-0EBCE4DA1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C3AD75-1894-431A-856A-DD1D26619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DA0254-8C00-47EC-823C-34D4E0A84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8A5FC2-8043-48A6-876C-CE65A6E0A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6C719C-3F1C-480A-919F-A27278745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9021D9-B4B8-4F8C-901D-836DACB31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A5B27B-1B5E-4023-A02F-7372C4BAF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B0659-59EE-452A-A8A7-A1854DDBE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D53938-0DD2-4EE5-BAF9-1CB16AA3C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38D420-C230-43BD-8CB2-13C0B96E2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2E36E4-F2EE-4ED6-BCF8-C2BBC9E96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DFC7FF-1E1E-4C24-AE29-C9E0B8BA2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802C33-A7CD-4FDF-BE11-90C78065E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C78E75-A9BC-4CFC-9244-51D7F1964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C1D780-C9D3-4603-B19E-9A3EB0B7B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F1CDB5-2A08-4885-AD4C-177621EF0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3D259C-1F46-4B0C-8172-00752383B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2C0412-03B1-4C4F-956F-A9CA6694A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0439B-5210-43FE-99AD-92D42D648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113B23-A827-49FE-9AF7-62751BC3E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700643-C7A5-4699-84E8-AAC5808E2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831B00-D769-4A81-B7D2-B5660760E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7FE85D-D7F7-45B8-B740-77A084377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89F013-F6D2-4D71-82D5-10F9CC0B7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938552-EBEF-4FD8-B72B-DF0963C38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389D65-9038-4FF7-9A18-23F8CC1C2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83EF9E-8248-402D-B060-E6B525930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2E052A-803A-4050-B67E-43419A4AC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4BA571-7AB9-47FB-9D61-992D9BDA5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2CC36-01D0-419F-965F-6E2C52B4D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8F81A9-328C-41BE-B7BB-89ADEC1B2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805AD7-C614-45A7-85B6-3FCB0B20B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AD851C-4B45-4ACB-AAE2-4F07B1222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59D6C8-C5BF-4CEE-AB71-657E94768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D8C358-28AA-4B49-9434-5EE4159C1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882EF9-EFAD-4EC8-B413-EB4AB4529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147FAD-38FB-412A-8C12-8307B447C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FDD6CA-B1F5-42E2-AF18-ABF745501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11F455-6516-42BB-9F0F-64108D668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57A49A-CD50-4058-915C-F3E46FAC7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F455D-0A32-4CAD-8DFC-92B44A256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98E1CD-3334-43CA-B05B-54CE1220A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29BBCC-0EBD-46A1-A8EA-8D1079CBE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9F9589-AA0E-453D-9482-FE65AD85F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0E397-12A8-4642-BE4F-10E6F3361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7A3D6-4336-4616-8D17-3AAFE1CB0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0E205-D21E-4370-A4CA-4C110326F7FF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40C5E-D0E8-4593-92B0-7F116597EE1F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99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100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103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dt" idx="7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ftr" idx="8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sldNum" idx="9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D1CB8-4238-428C-AE59-E583F4A68760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147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150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2" name="PlaceHolder 1"/>
          <p:cNvSpPr>
            <a:spLocks noGrp="1"/>
          </p:cNvSpPr>
          <p:nvPr>
            <p:ph type="dt" idx="10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ftr" idx="11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Num" idx="12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1F72A-1CEB-4E6D-A45E-BA3D16B1C509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193" name="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dt" idx="13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ftr" idx="14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sldNum" idx="15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937E6-9CA4-44C1-9795-F5E55D50AC5C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7" name="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238" name="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dt" idx="16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ftr" idx="17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 type="sldNum" idx="18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0B475-591A-4904-8072-5187C8FDB63F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ТЕМА: </a:t>
            </a:r>
            <a:br>
              <a:rPr sz="4400"/>
            </a:b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ФИНАНСЫ НЕДВИЖИМОСТИ</a:t>
            </a: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Авансовый аннуитет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00" name=""/>
          <p:cNvGraphicFramePr/>
          <p:nvPr/>
        </p:nvGraphicFramePr>
        <p:xfrm>
          <a:off x="1619280" y="2421000"/>
          <a:ext cx="6192720" cy="252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9280" y="2421000"/>
                    <a:ext cx="6192720" cy="252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РАВНЫМИ ДОЛЕВЫМИ ВЗНОСАМИ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03" name=""/>
          <p:cNvGraphicFramePr/>
          <p:nvPr/>
        </p:nvGraphicFramePr>
        <p:xfrm>
          <a:off x="468360" y="1773360"/>
          <a:ext cx="8153280" cy="4254480"/>
        </p:xfrm>
        <a:graphic>
          <a:graphicData uri="http://schemas.openxmlformats.org/drawingml/2006/table">
            <a:tbl>
              <a:tblPr/>
              <a:tblGrid>
                <a:gridCol w="857160"/>
                <a:gridCol w="1641600"/>
                <a:gridCol w="1785960"/>
                <a:gridCol w="2238120"/>
                <a:gridCol w="1630440"/>
              </a:tblGrid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гашени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оцент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ннуите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епогашенная часть к концу год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1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1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6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8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,3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9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,8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8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3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1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3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,4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8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1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ТОГ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,5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РАВНЫМИ ЧАСТЯМИ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06" name=""/>
          <p:cNvGraphicFramePr/>
          <p:nvPr/>
        </p:nvGraphicFramePr>
        <p:xfrm>
          <a:off x="468360" y="1828800"/>
          <a:ext cx="8218440" cy="4370400"/>
        </p:xfrm>
        <a:graphic>
          <a:graphicData uri="http://schemas.openxmlformats.org/drawingml/2006/table">
            <a:tbl>
              <a:tblPr/>
              <a:tblGrid>
                <a:gridCol w="863640"/>
                <a:gridCol w="1655640"/>
                <a:gridCol w="1800360"/>
                <a:gridCol w="2255760"/>
                <a:gridCol w="1643040"/>
              </a:tblGrid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гашени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оцент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ннуите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епогашенная часть к концу год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2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2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2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,2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2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,8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8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,4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4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ТОГ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4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,4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Х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РЕГРЕССИВНАЯ СХЕМА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08" name=""/>
          <p:cNvGraphicFramePr/>
          <p:nvPr/>
        </p:nvGraphicFramePr>
        <p:xfrm>
          <a:off x="533520" y="1828800"/>
          <a:ext cx="8153280" cy="4114800"/>
        </p:xfrm>
        <a:graphic>
          <a:graphicData uri="http://schemas.openxmlformats.org/drawingml/2006/table">
            <a:tbl>
              <a:tblPr/>
              <a:tblGrid>
                <a:gridCol w="857160"/>
                <a:gridCol w="1641600"/>
                <a:gridCol w="1785960"/>
                <a:gridCol w="2238120"/>
                <a:gridCol w="1630440"/>
              </a:tblGrid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гашени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оцент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ннуите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епогашенная часть к концу год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2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2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2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,2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1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,6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6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2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,2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2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2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ТОГ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0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,0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Х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ПРОГРЕССИВНАЯ СХЕМА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10" name=""/>
          <p:cNvGraphicFramePr/>
          <p:nvPr/>
        </p:nvGraphicFramePr>
        <p:xfrm>
          <a:off x="533520" y="1828800"/>
          <a:ext cx="8153280" cy="4114800"/>
        </p:xfrm>
        <a:graphic>
          <a:graphicData uri="http://schemas.openxmlformats.org/drawingml/2006/table">
            <a:tbl>
              <a:tblPr/>
              <a:tblGrid>
                <a:gridCol w="857160"/>
                <a:gridCol w="1641600"/>
                <a:gridCol w="1785960"/>
                <a:gridCol w="2238120"/>
                <a:gridCol w="1630440"/>
              </a:tblGrid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гашени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оцент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ннуите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епогашенная часть к концу год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2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2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2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,2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1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0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8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2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,6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4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2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ТОГ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8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,8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Х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9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Методы оценки, используемые при определении размера залога по ссуде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- метод капитализированных доходов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- метод реальной стоимости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- метод сопоставительной стоимости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ВОПРОС 2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4000" y="1844640"/>
            <a:ext cx="7786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Инвестиции в недвижимость. Принятие решений по инвестициям в недвижимость и модели инвестиционных расчетов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Инвестиции в недвижимость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овокупность затрат материальных, трудовых и денежных ресурсов, направленных на расширенное воспроизводство основных фондов с определенной целью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Возможные цели инвестирования: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68360" y="2133360"/>
            <a:ext cx="8229600" cy="29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Увеличение доходов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Увеличение капитала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охранение капитала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емонетарные цели (укрепление имиджа фирмы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ри принятии решения по инвестициям в недвижимость необходимо учитывать следующее: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68360" y="2349000"/>
            <a:ext cx="8229600" cy="35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Что это долгосрочное отвлечение денежных средств из оборот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Инвестиция предполагает отвлечение из оборота значительных сумм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Ликвидность недвижимости низкая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Инвестиции – это альтернатива существующей деятельност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Литература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>
              <a:lnSpc>
                <a:spcPct val="10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Москвин В.А. Кредитование инвестиционных проектов: Рекомендации для предприятий и коммерческих банков – М.: Финансы и статистика, 2003 – 204 с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едвижимость/Эл. учебное пособие. – М.: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DL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, 2003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Фальцман. А.И. Оценка инвестиционных проектов и предприятий – М.: Инфра- М,  2004 – 156 с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Джораев В.О. Экономическая оценка инвестиций. Электронное учебное пособие.- Оренбург, ОГАУ, 200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Основные этапы принятия решений по инвестициям: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68360" y="2204640"/>
            <a:ext cx="8229600" cy="34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Постановка проблемы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Определение цели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Выбор вариантов решения проблемы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Оценка вариантов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Выбор одного варианта из нескольких альтернативных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Модели расчетов: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 Статические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равнительный анализ затрат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равнительный анализ прибыли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равнительный анализ рентабельности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равнительный анализ срока окупаемост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Преимущества и недостатки статических моделей: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Преимущества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просты для использования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не требуют больших затрат на сбор и обработку данных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Недостатки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не учитывается временная структура поступлений и выплат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не всегда обеспечивается сопоставимость инвестиционных альтернати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Сравнительная смета затрат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328" name=""/>
          <p:cNvGraphicFramePr/>
          <p:nvPr/>
        </p:nvGraphicFramePr>
        <p:xfrm>
          <a:off x="457200" y="1600200"/>
          <a:ext cx="8229600" cy="453060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казател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становка 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становка Б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асходы на приобретение, руб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000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800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рок службы, ле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стоянные издержки, руб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7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5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еременные издержки, руб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0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8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бщие годовые издержки, руб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7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3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Сравнительный анализ прибыли: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330" name=""/>
          <p:cNvGraphicFramePr/>
          <p:nvPr/>
        </p:nvGraphicFramePr>
        <p:xfrm>
          <a:off x="457200" y="1600200"/>
          <a:ext cx="8229600" cy="453060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казател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становка 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становка Б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бщие годовые издержки, руб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7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3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оизводительность установки, ед. в год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.5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Цена реализация, руб. за ед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, 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,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ыручка от реализации, руб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1.65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4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ибыль, руб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4.6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1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Сравнительный анализ рентабельности и срока окупаемости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332" name=""/>
          <p:cNvGraphicFramePr/>
          <p:nvPr/>
        </p:nvGraphicFramePr>
        <p:xfrm>
          <a:off x="457200" y="1844640"/>
          <a:ext cx="8229600" cy="43387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71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казател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становка 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становка Б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асходы на приобретение, руб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000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800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1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ибыль, руб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4.6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1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1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мортизация,  руб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0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14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ентабельность, в 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,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,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1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рок окупаемости, ле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,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,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2. Динамические модели расчетов: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68360" y="2491920"/>
            <a:ext cx="8229600" cy="37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26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Метод основанный на стоимости капитала;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26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Метод аннуитета.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Подробно будут изучены в разделе «доходные методы оценки объектов недвижимости»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 предлагаемом примере рассматриваются как особые случаи общих динамических моделей, как концептуальные подход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Концепция неполного финансового плана</a:t>
            </a:r>
            <a:br>
              <a:rPr sz="24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ТЫС. РУБ.)</a:t>
            </a:r>
            <a:br>
              <a:rPr sz="2000"/>
            </a:br>
            <a:endParaRPr b="0" lang="en-US" sz="20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336" name=""/>
          <p:cNvGraphicFramePr/>
          <p:nvPr/>
        </p:nvGraphicFramePr>
        <p:xfrm>
          <a:off x="395280" y="1268280"/>
          <a:ext cx="8089920" cy="5197680"/>
        </p:xfrm>
        <a:graphic>
          <a:graphicData uri="http://schemas.openxmlformats.org/drawingml/2006/table">
            <a:tbl>
              <a:tblPr/>
              <a:tblGrid>
                <a:gridCol w="2027160"/>
                <a:gridCol w="935280"/>
                <a:gridCol w="936360"/>
                <a:gridCol w="1079640"/>
                <a:gridCol w="1081080"/>
                <a:gridCol w="1079640"/>
                <a:gridCol w="950760"/>
              </a:tblGrid>
              <a:tr h="42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Момент времен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умм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роект 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ыплаты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1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9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оступлени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2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етто-платеж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11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роект Б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ыплаты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4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8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оступлени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2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етто-платеж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14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Недостатки данной модели: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етто-платежи обездвижены, что не соответствует принципам экономической целесообразности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е учитываются реальные возможности предприятия по финансированию проекта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Будущие денежные потоки не приведены к текущей стоимости вложени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Концепция полного финансового плана на примере проекта А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533520" y="1828800"/>
          <a:ext cx="8153280" cy="4195800"/>
        </p:xfrm>
        <a:graphic>
          <a:graphicData uri="http://schemas.openxmlformats.org/drawingml/2006/table">
            <a:tbl>
              <a:tblPr/>
              <a:tblGrid>
                <a:gridCol w="2093760"/>
                <a:gridCol w="1224000"/>
                <a:gridCol w="1297080"/>
                <a:gridCol w="1224000"/>
                <a:gridCol w="1224000"/>
                <a:gridCol w="10904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ервоначальный капитал, т. руб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.0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роект А , т. руб.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1.1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Кредит, , т. руб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12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х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х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х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Д. И.№1, т. руб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х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18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9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х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х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Д. И.№2, т. руб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х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х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49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4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х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Д. И.№3, т. руб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х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х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х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94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4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Конечный капитал,  т. руб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х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х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х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х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44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Вопросы к изучению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Ипотечный креди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Инвестиции в недвижимость. Принятие решений по инвестициям в недвижимость и модели инвестиционных расчет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Показатели экономической эффективности инвестиций в недвижимос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Другие формы финансирования недвижимости. Девелопмен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Страхование недвижимост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Недостатки модели: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евозможно устранить субъективный фактор при выборе вариантов дополнительных инвестиционных проектов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Будущая стоимость не приведена в соответствие с текущей стоимостью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Вопрос 3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Показатели экономической     эффективности инвестиций в недвижимост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Подготовительный этап оценки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.Формируется реальный денежный поток по периодам реализации проекта, как поток поступлений и платежей по трем основным направлениям деятельности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роизводственная деятельность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Финансовая деятельность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Инвестиционная деятельность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.Выводится итоговое сальдо денежного потока по периодам реализации проекта, используемое далее в расчетах показателей эффективност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ff"/>
                </a:solidFill>
                <a:latin typeface="Times New Roman"/>
              </a:rPr>
              <a:t>Оценка инвестиционных проектов с учетом временного фактора основана на использовании следующих показателей:</a:t>
            </a:r>
            <a:endParaRPr b="0" lang="en-US" sz="2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исконтированный срок окупаемости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Чистый дисконтированный доход ЧДД (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PV)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тавка доходности проекта (СДП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нутренняя ставка доходности проекта (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RR)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одифицированная СДП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ДП финансового менеджмент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Дисконтирование денежного потока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0" name=""/>
              <p:cNvSpPr txBox="1"/>
              <p:nvPr/>
            </p:nvSpPr>
            <p:spPr>
              <a:xfrm>
                <a:off x="2340000" y="1628640"/>
                <a:ext cx="4608360" cy="216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Тсj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Дj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Kj</m:t>
                        </m:r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Kj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i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j</m:t>
                                </m:r>
                              </m:sup>
                            </m:sSup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       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</m:e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351" name=""/>
          <p:cNvSpPr/>
          <p:nvPr/>
        </p:nvSpPr>
        <p:spPr>
          <a:xfrm>
            <a:off x="826920" y="3716280"/>
            <a:ext cx="7777440" cy="2454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де, Д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 –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гнозируемый (будущий) доход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иода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с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 –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екущая стоимость будущего дохода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иода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 –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множитель настоящей (текущей) стоимости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 –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тавка дисконтирования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 –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иод реализации проект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Исходные данные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тоимость приобретаемого оборудования – 2 млн. руб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рок службы оборудования – 5 лет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Чистые доходы по периодам реализации проекта составили в тыс. рублей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 – 400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 – 1000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 – 1200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 – 1600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 – 1800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тавка дисконтирования – 15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Расчет срока окупаемости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355" name=""/>
          <p:cNvGraphicFramePr/>
          <p:nvPr/>
        </p:nvGraphicFramePr>
        <p:xfrm>
          <a:off x="457200" y="1600200"/>
          <a:ext cx="8229600" cy="4729320"/>
        </p:xfrm>
        <a:graphic>
          <a:graphicData uri="http://schemas.openxmlformats.org/drawingml/2006/table">
            <a:tbl>
              <a:tblPr/>
              <a:tblGrid>
                <a:gridCol w="2314440"/>
                <a:gridCol w="936720"/>
                <a:gridCol w="934920"/>
                <a:gridCol w="1008360"/>
                <a:gridCol w="1008000"/>
                <a:gridCol w="1081080"/>
                <a:gridCol w="946080"/>
              </a:tblGrid>
              <a:tr h="90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ериод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Денежный поток, тыс. руб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2000)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2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6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8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Дисконтированный денежный поток (ДДП), тыс. руб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2000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4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5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8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1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9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акопленный ДДП, тыс. руб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2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165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89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10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0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70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Дисконтированный срок окупаемости, ле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 + (108 : 916) = 3,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Недостатки показателя: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В расчетах игнорируются доходы, получаемые после предполагаемого срока окупаемости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Для анализа инвестиционного портфеля предполагаются дополнительные расчеты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Формула расчета 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NPV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9" name=""/>
              <p:cNvSpPr txBox="1"/>
              <p:nvPr/>
            </p:nvSpPr>
            <p:spPr>
              <a:xfrm>
                <a:off x="1835280" y="3076560"/>
                <a:ext cx="5699160" cy="229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n</m:t>
                            </m:r>
                          </m:sup>
                          <m:e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Vj</m:t>
                            </m:r>
                            <m:r>
                              <m:t xml:space="preserve">×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Kj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−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n</m:t>
                            </m:r>
                          </m:sup>
                          <m:e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  <m:r>
                              <m:t xml:space="preserve">×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Kj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&gt;</m:t>
                        </m:r>
                        <m:r>
                          <m:rPr>
                            <m:lit/>
                            <m:nor/>
                          </m:rPr>
                          <m:t xml:space="preserve"> 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где, Vj - входящие денежные потоки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Ij - исходящие денежные потоки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Kj - множитель настоящей стоимости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Расчет показателя ЧДД (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NPV)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361" name=""/>
          <p:cNvGraphicFramePr/>
          <p:nvPr/>
        </p:nvGraphicFramePr>
        <p:xfrm>
          <a:off x="457200" y="1600200"/>
          <a:ext cx="8229600" cy="4668840"/>
        </p:xfrm>
        <a:graphic>
          <a:graphicData uri="http://schemas.openxmlformats.org/drawingml/2006/table">
            <a:tbl>
              <a:tblPr/>
              <a:tblGrid>
                <a:gridCol w="2314440"/>
                <a:gridCol w="936720"/>
                <a:gridCol w="934920"/>
                <a:gridCol w="1008360"/>
                <a:gridCol w="1008000"/>
                <a:gridCol w="1081080"/>
                <a:gridCol w="946080"/>
              </a:tblGrid>
              <a:tr h="88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иод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Денежный поток, тыс. руб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2000)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2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6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8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Дисконтированный денежный поток (ДДП), тыс. руб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2000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4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5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8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1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9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уммарный ДДП, тыс. руб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48 + 756 + 788 + 916 + 894 = 370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Чистый дисконтированный доход, тыс. руб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702 – 2000 = 1702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&gt; 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Вопрос 1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ИПОТЕЧНЫЙ КРЕДИ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Недостатки показателя 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NPV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бсолютное значение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PV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при сравнительном анализе проектов не учитывает объема вложений по каждому проекту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 результаты существенное влияние оказывает применяемая ставка дисконтирования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ценка уровня риска проводится достаточно субъективно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Arial"/>
              </a:rPr>
              <a:t>Внутренняя ставка доходности – это ставка дисконтирования, приравнивающая сумму приведенных доходов от проекта к величине инвестиций</a:t>
            </a:r>
            <a:br>
              <a:rPr sz="3200"/>
            </a:b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65" name="" descr=""/>
          <p:cNvPicPr/>
          <p:nvPr/>
        </p:nvPicPr>
        <p:blipFill>
          <a:blip r:embed="rId1"/>
          <a:stretch/>
        </p:blipFill>
        <p:spPr>
          <a:xfrm>
            <a:off x="837720" y="3117600"/>
            <a:ext cx="3775320" cy="22129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66" name=""/>
              <p:cNvSpPr txBox="1"/>
              <p:nvPr/>
            </p:nvSpPr>
            <p:spPr>
              <a:xfrm>
                <a:off x="2870280" y="3357720"/>
                <a:ext cx="3002040" cy="83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n</m:t>
                        </m:r>
                      </m:sup>
                      <m:e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Vj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Kj</m:t>
                        </m:r>
                        <m:r>
                          <m:t xml:space="preserve">)</m:t>
                        </m:r>
                      </m:e>
                    </m:nary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n</m:t>
                        </m:r>
                      </m:sup>
                      <m:e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Kj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Влияние ставки дисконтирования на ЧДД (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NPV)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368" name=""/>
          <p:cNvGraphicFramePr/>
          <p:nvPr/>
        </p:nvGraphicFramePr>
        <p:xfrm>
          <a:off x="457200" y="1600200"/>
          <a:ext cx="8229600" cy="4530600"/>
        </p:xfrm>
        <a:graphic>
          <a:graphicData uri="http://schemas.openxmlformats.org/drawingml/2006/table">
            <a:tbl>
              <a:tblPr/>
              <a:tblGrid>
                <a:gridCol w="2819520"/>
                <a:gridCol w="1079280"/>
                <a:gridCol w="1152720"/>
                <a:gridCol w="1079280"/>
                <a:gridCol w="1079640"/>
                <a:gridCol w="1019160"/>
              </a:tblGrid>
              <a:tr h="15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тавка дисконтирования, 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1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ЧДД (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PV)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, тыс. руб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5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0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2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уммарный приведенный поток, тыс. руб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5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0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8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Расчет внутренней ставки </a:t>
            </a:r>
            <a:r>
              <a:rPr b="0" lang="en-US" sz="4000" spc="-1" strike="noStrike" u="sng">
                <a:solidFill>
                  <a:srgbClr val="ffff00"/>
                </a:solidFill>
                <a:uFillTx/>
                <a:latin typeface="Arial"/>
              </a:rPr>
              <a:t>доходности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539280" y="1599840"/>
            <a:ext cx="81471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052       5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000       5+Х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788       45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052 – 2000          5 – (5+Х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------------------- = -----------------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052 – 1788            5 – 4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Х= 37,4        ВСДП= 5+37,4 = 42,4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Ставка доходности проекта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Выбор оптимального проекта основан на оценке эффективности единицы затрат, что позволяет сравнивать проекты, различающиеся по величине затрат и доходов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К примеру искомый проект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                          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3702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СДП=  -------- = 1,85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                          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2000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Альтернативный проект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4900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СДП2= --------- = 1,63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3000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Недостаток:  зависимость результата расчета от избранной ставки дисконтирования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000">
    <p:fade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Модифицированная ставка доходности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35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Инвестиции в проект предполагается осуществлять поэтапно, и временно свободные денежные средства размещены в иных проектах, сроки окупаемости которых совпадают с началом нового этапа финансирования искомого проекта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Дисконтирование этих потоков осуществляется по безопасной ликвидной ставке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Текущая стоимость проекта рассчитывается с учетом этих денежных потоков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Ставка доходности финансового менеджмента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редполагается, что все высвобождаемые в ходе реализации инвестиционного проекта денежные средства направляются на финансирование новых инвестиционных проектов исходя из политики предприятия 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ри оценке проекта в целом рассчитывают среднюю или, так называемую, «круговую» ставку доходности будущих инвестици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Вопрос 4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95280" y="2276280"/>
            <a:ext cx="8353440" cy="30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ДРУГИЕ ФОРМЫ ФИНАНСИРОВАНИЯ НЕДВИЖИМОСТИ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ДЕВЕЛОПМЕН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33520" y="473040"/>
            <a:ext cx="815328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ДЕВЕЛОПМЕНТ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Деятельность, связанная с развитием территории, включающая подготовку земель и проведение строительных, инженерных  и иных операций с недвижимостью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Девелопмент, как управление инвестиционным проектом включает в себя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Выбор экономически эффективного проекта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Получение всех необходимых разрешений на его реализацию от органов власти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Определение условий привлечения инвестиций, разработка механизмов и форм их возврата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Поиск и привлечение инвесторов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Отбор подрядчиков, финансирование их деятельности и контроль за их работой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Реализация созданного объекта недвижимости или передача его в эксплуотацию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33520" y="473040"/>
            <a:ext cx="815328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Факторы, определяющие ипотечный креди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срок действия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цель финансирования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вид обеспечения кредита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при строительстве – целевое использование средств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оценка стоимости (размер кредита зависит от стоимости)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Девелопер и его функции по реализации проекта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700" spc="-1" strike="noStrike">
                <a:solidFill>
                  <a:srgbClr val="ffffff"/>
                </a:solidFill>
                <a:latin typeface="Arial"/>
              </a:rPr>
              <a:t>Девелопер – тот, кто организует создание объекта в наилучшем месте таким образом, что позволяет вернуть инвестированные в него ресурсы и получить прибыль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700" spc="-1" strike="noStrike">
                <a:solidFill>
                  <a:srgbClr val="ffffff"/>
                </a:solidFill>
                <a:latin typeface="Arial"/>
              </a:rPr>
              <a:t>Функции: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Arial"/>
              </a:rPr>
              <a:t>Определение возможности реализации проекта развития недвижимости;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Arial"/>
              </a:rPr>
              <a:t>Определение условий осуществления проекта и разработка бизнес-плана его реализации;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Arial"/>
              </a:rPr>
              <a:t>Реализация проекта развития недвижиомсти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Определение возможности реализации проекта развития недвижимости предполагает изучение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тенденции экономического развития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Состояние налоговой и финансовой систем региона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Предложение и спрос на недвижимость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Возможного и наиболее выгодного места реализации проекта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Определение условий осуществления проекта и разработка бизнес-плана его реализации предполагает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Определение физических возможностей реализации проекта;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Определение затрат на реализацию проекта и возможных источников финансирования;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Получение разрешения госорганов и подготовка позитивного мнения общественности;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Проведение переговоров с собственником земли, согласование условий перехода земли под застройку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533520" y="473040"/>
            <a:ext cx="815328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Реализация проекта предполагает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Привлечение финансовых ресурсов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Привлечение подрядных проектных и строительных организаций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Организация финансирования строительства и контроль за его ходом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Продажа (передача) объекта в эксплуатацию, возврат вложенных средств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33520" y="473040"/>
            <a:ext cx="815328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ДРУГИЕ ФОРМЫ ФИНАНСИРОВАНИЯ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ПРОДАЖА В РАССРОЧКУ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ЮНИТИЗАЦИЯ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 - РАЗДЕЛЕНИЕ СОБСТВЕННОСТИ НА МНОЖЕСТВО ДОЛЕЙ И ПОЛУЧЕНИЕ ПРИБЫЛЕЙ ОТ ВЛАДЕНИЯ ЕДИНИЦЕЙ СОБСТВЕННОСТИ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СЕКЬЮРИТИЗАЦИЯ- 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ВЫПУСК ОБЛИГАЦИЙ КАКОЙ ТО КОМПАНИЕЙ ИЛИ РАСПРЕДЕЛЕНИЕ ДОЛЕЙ В ПОРТФЕЛЕ ЦЕННЫХ БУМАГ ПАЕВОГО ТРЕСТА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ПРИМЕР ТАКИХ ЦЕННЫХ БУМАГ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Arial"/>
              </a:rPr>
              <a:t>СЕРТИФИКАТ ДОХОДА НА НЕДВИЖИМОСТЬ (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PINC) – </a:t>
            </a:r>
            <a:r>
              <a:rPr b="0" lang="ru-RU" sz="2700" spc="-1" strike="noStrike">
                <a:solidFill>
                  <a:srgbClr val="ffffff"/>
                </a:solidFill>
                <a:latin typeface="Arial"/>
              </a:rPr>
              <a:t>ВЕЛИКОБРИТАНИЯ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Arial"/>
              </a:rPr>
              <a:t>ИНВЕСТОР ИЗВЛЕКАЕТ ВЫГОДУ В ФОРМЕ ЧАСТИ ОТ ДОХОДА И ПРИРОСТА КАПИТАЛЬНОЙ СТОИМОСТИ НЕДВИЖИМОСТИ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Arial"/>
              </a:rPr>
              <a:t>ИНВЕСТОР НЕ СТАНОВИТСЯ СОБСТВЕННИКОМ НЕДВИЖИОМСТИ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PINC </a:t>
            </a:r>
            <a:r>
              <a:rPr b="0" lang="ru-RU" sz="2700" spc="-1" strike="noStrike">
                <a:solidFill>
                  <a:srgbClr val="ffffff"/>
                </a:solidFill>
                <a:latin typeface="Arial"/>
              </a:rPr>
              <a:t>НЕ ОБЛАГАЕТСЯ ПОДОХОДНЫМ НАЛОГОМ И НАЛОГОМ НА ПРИРОСТ КАПИТАЛЬНОЙ СТОИМОСТИ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Перечень обстоятельств, от наступления которых традиционно страхуется недвижимое имущество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Землетрясение, оползень, обвал, буря, ураган, наводнение, град, ливень, затопление, оседание почвы, морозы и снегопады, необычные для данной местности, действие подпочвенных вод, удар молнии;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пожар, взрыв, технические аварии, техногенные аварии и катастрофы;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проникновение воды из соседнего помещения, повреждение имущества водой из водопроводных, канализационных и противопожарных систем;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неправомерные действия третьих лиц, кража со взломом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Существенные условия договора страхования недвижимости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-  имущество, являющееся объектом страхования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-  характер события, на случай наступления которого осуществляется страхование (страхового случая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-  размер страховой суммы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-  срок действия договора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39280" y="188640"/>
            <a:ext cx="815364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Страховое свидетельство должно содержать следующие данные: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539280" y="2133360"/>
            <a:ext cx="8153640" cy="361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наименование документа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наименование, юридический адрес и банковские реквизиты страховщика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фамилию, имя, отчество или наименование страхователя и его адрес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указание объекта страхования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размер страховой суммы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указание страхового риска (рисков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размер страхового взноса, сроки и порядок внесения страховых премий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срок действия договора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порядок изменения и прекращения договора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подписи сторон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Обязанности страховщика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ознакомить страхователя с правилами страхования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в случае проведения страхователем мероприятий, уменьшивших риск наступления страхового случая и размер возможного ущерба застрахованному недвижимому имуществу, либо в случае увеличения его действительной стоимости перезаключить по заявлению страхователя договор страхования с учетом этих обстоятельств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при наступлении страхового случая выплатить страховое возмещение в установленный договором или законом срок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возместить расходы, которые понес страхователь при наступлении страхового случая для предотвращения или уменьшения ущерба застрахованному имуществу, если возмещение таких расходов предусмотрено правилами страхования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не разглашать сведения о страхователе и его имущественном положении, за исключением случаев, предусмотренных законодательством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Варианты определения процента  и способы погашения кредита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- соглашение о твердом проценте на весь срок действия (банк должен получить рефинансирование на твердых условиях);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- соглашение о переменном проценте. Для клиента появляется возможность удешевления финансирования. Для банка преимущество - условия процента могут быть согласованы с издержками на рефинансирование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33520" y="473040"/>
            <a:ext cx="815328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Обязанности страхователя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—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своевременно вносить страховые взносы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—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при заключении договора страхования сообщить страховщику о всех известных ему обстоятельствах, имеющих значение для оценки страхового риска, а также о всех заключенных или заключаемых договорах страхования в отношении данного объекта страхования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—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принимать необходимые меры для предотвращения и уменьшения ущерба застрахованному недвижимому имуществу при наступлении случая и сообщить страховщику о наступлении страхового случая в сроки и согласованной форме, установленные договором страхования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Основания для отказа страховщика произвести страховую выплату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-    умышленные действия страхователя, которыми вызывается наступление страхового случая или умышленное преступление, находящегося в прямой причинной связи со страховым случаем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-    Законом могут быть предусмотрены случаи освобождения страховщика от выплаты страхового возмещения при наступлении страхового случая вследствие грубой неосторожности страхователя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-    сообщение страхователем страховщику заведомо ложных сведений об объекте страхования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-    получение страхователем соответствующего возмещения ущерба по имущественному, страхованию от лица, виновного в причинении этого ущерба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39280" y="764640"/>
            <a:ext cx="815364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Договор страхования прекращается в случаях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33520" y="1844280"/>
            <a:ext cx="815328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—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истечения срока действи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—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исполнения страховщиком обязательств перед страхователем договора в полном объеме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—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неуплаты страхователем страховых взносов в установленные договором срок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—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ликвидации страховщик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—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принятия судом решения о признании договора страхования недействительным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—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в других случаях, предусмотренных законодательство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РЕЗЮМЕ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Изучены ипотечный кредит и его основные характеристики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Изучены статические и динамические модели расчетов при принятии решения о выборе варианта реализации проекта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Рассмотрены основные показатели экономической эффективности инвестиционных проектов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Изучены инструменты используемые для финансирования недвижимости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Дано определение и показаны основные этапы девелопмента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СХЕМЫ ПОГАШЕНИЙ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- РАВНЫМИ ЧАСТЯМИ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- РАВНЫМИ ДОЛЕВЫМИ ВЗНОСАМИ (АННУИТЕТ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- РЕГРЕССИВНАЯ СХЕМА ПОГАШЕНИЯ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- ПРОГРЕССИВНАЯ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39280" y="333000"/>
            <a:ext cx="815364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АННУИТЕТНЫЕ ПЛАТЕЖИ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ВОЗВРАТ ДЕНЕЖНЫХ СРЕДСТВ В ВИДЕ СЕРИИ РАВНОВЕЛИКИХ ПЛАТЕЖЕЙ, ВКЛЮЧАЮЩИХ СУММУ ПОГАШЕНИЯ И ПРОЦЕНТОВ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Обычный аннуитет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1692360" y="2421000"/>
          <a:ext cx="5688000" cy="230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2360" y="2421000"/>
                    <a:ext cx="5688000" cy="23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0T06:54:47Z</dcterms:created>
  <dc:creator>Джораев</dc:creator>
  <dc:description/>
  <dc:language>en-US</dc:language>
  <cp:lastModifiedBy>Джораев В.О.</cp:lastModifiedBy>
  <dcterms:modified xsi:type="dcterms:W3CDTF">2007-02-09T18:30:20Z</dcterms:modified>
  <cp:revision>22</cp:revision>
  <dc:subject/>
  <dc:title>ТЕМА: ФИНАНСОВЫЕ АСПЕКТЫ НЕДВИЖИМОСТИ</dc:title>
</cp:coreProperties>
</file>